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112-751B-4B63-9602-E9CE6CAAD5C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7F5-2937-43DE-B975-2B3F68A54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7521-D7BE-4779-B32A-FAAC8BB50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EB4D-D759-4F91-A3D8-BA43ADE17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52AD-8DED-4298-9BF9-43EFB7F9D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AB81-61FB-491D-87DB-99B95D337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217-85E9-4738-ACE5-D63EB7AB84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r el apartado 6.4 de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4E8C-8E46-4EA3-BAE7-AFFA3F537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escala nacional, una estructura de coordinación de cambio climático formal o informal y a alto nivel puede apoyar la respuesta global, aunque debería actuar como catalizador en lugar de como sustituto de la acción de otros organismos gubern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o central con poder de coordinación y de toma de decisiones sobre los ministerios competentes, en particular con respecto a la adjudicación presupuestar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.ej., el gabinete del Presidente o Primer Ministro, el Ministerio de Finanzas, el Ministerio de Planificación o algún organismo equival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7C6C-CD89-4F23-8D48-1242E0EB1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A58-AC50-45A6-ABE1-9B4335926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D4DC-9111-49BC-A067-9DA91668E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CE04-1702-48FC-8C81-EAB69828B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D4A-CB8E-434C-B93A-D3CF76B44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AA5-DDBA-4613-8B20-B4A2ECB06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7C0F-A2D0-40BC-B3BE-236992F91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153C-F625-4BA1-BF8F-7E8A50E38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A0FF-FFAC-452A-887A-594E2E7F3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Una iniciativa de Autoevaluación Nacional de la Capacidad (ANC) es 'un proces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nacion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i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daptado a nivel lo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que tiene el objetivo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sar las cuestiones globales relativas al medio ambiente que exigen una atención prior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ar la forma en que el desarrollo de capacidades podría reforzar la gestión de estas cues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ar un plan de acción nacional para el desarrollo de capacidad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r UNDP-UNEP (2010)  pp. 32-35 para obtener información sobre las autoevaluaciones nacionales de capacidad y las 'evaluaciones de capacidades y vulnerabilidad'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60B2-839C-4F64-9C04-7A5FD1864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0ECC-1E10-4FD9-86FB-3479B7AE3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r UNDP-UNEP (2009), página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E376-8935-416B-BB75-C6B122C742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FAB5-DC38-438B-A367-64BCB1E37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 el Módulo 2 se han abordado los vínculos existentes entre el rendimiento sectorial y el medio amb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rendimiento del secto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oambient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uele contar con una financiación insuficiente: por ejemplo, en Lesoto (2012), el Departamento de Medio Ambiente depende del Ministerio de Turismo y Medio Ambiente. El Ministerio recibe en su totalidad alrededor de un 0,16% del presupuesto asignado a los ministerios competentes, del cual, tan solo una pequeña parte se destina al Departamento de Medio Ambiente, ya que las principales tareas del Ministerio se orientan a la promoción del tur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 frecuencia, lo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en el sector medioambiental no se llevan a cabo debido a la falta de financiación. Si el resto de sectores no asumen la responsabilidad de su dimensión medioambiental, las opciones para abordarla quedan considerablemente limit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4C9-9FDC-47FE-9904-F36547D4C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319-E23E-4036-8FD5-9EBE46DCF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Resultados de la inte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ción y proceso democr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políticos y relativos a las 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de plan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de presu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relativos a las instituciones y las capac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de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en materia de condu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mpacto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76D-562C-4849-806D-3B96CE223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2732-4144-4161-AA61-1446AFF04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877-5904-401C-AA8C-780C1DA464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5D7-518C-4ABB-A493-61169988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0A4-D499-4B87-923C-21446D3F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637-175B-4BE0-B97B-D98EE28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F79-BB0C-4355-BE15-D66988B2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937E-0D59-4593-A84B-AE3FA408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7EAD-8471-474E-BEF8-233F943A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A5FD-D64D-46F7-947E-8B407CFF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0520-4803-49FD-8921-30207077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0B64-8FC2-4D8A-AE4C-01ACC506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BE6-FC1E-4432-BC4B-675B20D3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B12-B737-40F3-9287-601AE61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058-2814-45DE-B688-FBFFD4E0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E80-4A15-4E6B-863C-E47952CA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31C3-6239-4BD4-A8D7-11CEA3E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835F-8A4F-4C5D-AD4D-4473EFBB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95B-6AB5-4A30-99CA-4E594A84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9DE-F60A-4EFA-8502-2432A20A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C71-E620-4F43-868A-12C5CDF2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0D6-01E9-4843-816A-1C944AD8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7D8-3600-42EE-B0F8-59C114C1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711-08F3-4C16-B4D8-86E938F7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F5F-EBCE-4530-BC4C-C028F27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927-61EF-48F2-B2CD-9D676C8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269-CF95-4E5D-A563-52F41BF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5AC7-C568-497C-8857-A1D10663CD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EE7D-EE21-4817-A1AB-D4A91ACAA1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y consolidación de instituciones y capacidad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el cambio climático a nivel nacional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Fortalecimiento de instituciones y capacidad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805-4476-4672-9E79-49B1A31FE8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quisitos clave institucionales para una integración efectiv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Integración efectiva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oordinación y cooperación intersectorial y transvers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romotores influyentes nivel nacion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30472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Integración de una nueva línea de pensamiento, nueva vía de investigación en procesos y sistemas de planificación y monitore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Intercambio de experiencias, difusión de buenas práctic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articipación de los actores a diferentes escal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Refuerzo de las capacidades de los actores a diferentes escal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34152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P.ej., gabinete del primer ministro, ministerios de finanzas/presupuesto/planificac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3B7A-4817-4E12-B8D8-752C2905B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Funciones de los principales actor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995400"/>
          <a:ext cx="8750160" cy="5529240"/>
        </p:xfrm>
        <a:graphic>
          <a:graphicData uri="http://schemas.openxmlformats.org/drawingml/2006/table">
            <a:tbl>
              <a:tblPr/>
              <a:tblGrid>
                <a:gridCol w="3168720"/>
                <a:gridCol w="55814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de acto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ncipales funciones y responsabil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 central (incl. el gabinete del primer ministro, ministerios competentes, autoridades de RRD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derazgo, marcos de gestión del desempeñ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, normativas y legisl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dicación de recursos presupuestario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entación y desarrollo de capac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lament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bildeo (esp. con elaboración de presupuesto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icina Nacional de Estadístic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o y supervisión de indicado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s loc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ción de políticas nac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con las estrategias loc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ivad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veer pérdidas/oportunidades, gestión riesgo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ción en inversiones sostenibles y reducción de la vulnerabilidad a través del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ciones científicas y académic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igación orientada hacia las polític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yo en la toma de decision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smos de promoción de la invers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rsiones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pia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inversiones "a prueba del clima", cierre de las brechas de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ciones de reducción de la pobrez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r en cuenta el medio ambiente y c.c.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B36-4F41-4D46-943A-F37D3D103A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851280" y="6434280"/>
            <a:ext cx="52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Schipper et al (2008) y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Funciones de los principales actor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de acto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ncipales funciones y responsabil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ciones de la sociedad civi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ovechar su experienc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r a reflejar las realidades loc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pilación de información, sensibiliz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ión de guardiá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s de comunic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sibiliz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ón a nivel de comunida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úblico en gener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cimiento a nivel loc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 las voces de los más pob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Schipper et al (2008) y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4BE4-BE94-4E71-B87B-AA0B410DB6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f5494"/>
                </a:solidFill>
                <a:latin typeface="Verdana"/>
              </a:rPr>
              <a:t>Posibles puntos de entrada para la integración medioambiental en la planificación de desarrollo nacional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D66-5165-456F-AA98-EA26672A12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408456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vel de planific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ntos de partid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5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 nacional y ministerios intersectori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egia de reducción de la pobrez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 de desarrollo nacion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egia de desarrollo nacional basada en los ODM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o o revisión de la asignación del presupuesto nacional (por ejemplo, un marco de gastso a término medio, una revisión del gasto público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sterios sectori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egias, planes y políticas del sector (por ejemplo, plan del sector agrícola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de presupuestos del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iones del gasto públ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idades subnac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 de descentraliz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s del Distrit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de presupuestos subnac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f5494"/>
                </a:solidFill>
                <a:latin typeface="Verdana"/>
              </a:rPr>
              <a:t>Principios para institucionalizar la integración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415C-1696-499F-8969-E1120E53BC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rasladar la coordinación a un organismo central con poder de coordinación y de toma de decisiones sobre los ministerios compete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r ejemplo, en el caso del cambio climático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Comisión para desarrollo nacional y la reform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ia: Gabinete del Presiden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r ejemplo, en el caso del medio ambiente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a: EPA a cargo del gabinete del presiden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Comité Directivo de Recursos Natura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526-4DEA-4D74-9C52-42E96C26DF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ecer/fortalecer mecanismos de coordinación, con una asignación clara de las responsabilidades y con arreglos permane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para el cambio climático, México: Comisión Interministerial sobre el Cambio Climático (CICC) con grupos de trabajo especializad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arse, en la medida de lo posible, en mecanismos de coordinación intersectorial existe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en relación con la seguridad alimentaria, RRD, la gestión sostenible de las tierr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EF2C-77DC-4FB6-9A15-DEE259815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cionalizar la flexibilida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compromiso a llevar a cabo revisiones periódicas de políticas/estrategias y nueva evaluación del conocimiento disponib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cionalizar la integr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tigación/adaptación del cambio climático y medio amb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en directrices, procedimientos, sistemas, tamizado ambiental de EAE y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A27-8184-4D17-8B1C-EBDA80CB12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sarrollar mecanismos de coordinación eficaces a nivel nacional y local, identificando el nivel más adecuado en el que se puede cooperar/coordina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Ruanda: contratos de desempeño anual en diferentes niveles gubernamentales, con una definición clara de objetivos, indicadores y actividad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talecimiento institucional a nivel subnacional, haciendo coincidir la transferencia de competencias con la transferencia de recurs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A25-1A5D-4356-AD9E-0BD881226A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¿En qué consiste la integración?  </a:t>
            </a:r>
            <a:br>
              <a:rPr sz="2800"/>
            </a:b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¿Por qué hablamos de integrar el medio ambiente y el cambio climático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1CC-5AFB-4ED3-A0A0-7E072C7208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2235-EEB5-4370-B58E-33F76065E6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dades loca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208908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Herramientas y acciones para apoyar el fortalecimiento institucional y de capacidad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6B1-32B2-4824-9E2A-F3B6D7C441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asos para el fortalecimiento institucional y de capacidad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4633-BDFD-4AD8-B475-08846F0294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valuación de necesidad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Aprendizaje a través de la práctic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ecanismos de trabaj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La integración como práctica habitu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Autoevaluación de las capacidades nacion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Acuerdos institucion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rco de gest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Plan de trabaj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50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Formación, visitas de intercambio, capacitación en el empleo, experiencia/difus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 flipV="1">
            <a:off x="3128400" y="4483800"/>
            <a:ext cx="448200" cy="396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Análisis de los actor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valuación de necesidades: ¿A quién va dirigido el desarrollo de capacidades? ¿Con qué objetivo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Desarrollo de Capacidade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DC) debería producirse a tres niveles complementario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nivel d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torno propicio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ivel de sistema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nivel institucional glob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nivel de organiz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nivel individu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1CEB-6359-4584-8F8F-440480F158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omenzar determinando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¿Qué objetivo tiene el desarrollo de capacidades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ir objetivos específ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Evaluación de necesidades: necesidades de DC de los actores para la integració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Desarrollo de capacidades de los actor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en relación con sistemas de información y análi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para fijar prioridades y planifica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218124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de participación y empoderamient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políticas y de comunicac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2987640" y="55897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de monitoreo, evaluación y aprendizaj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apacidades técnicas específic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238-BEDD-4026-8C37-8CF371584E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Dalal-Clayton &amp; Bass 2009: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179280" y="5410080"/>
            <a:ext cx="2664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FUNCIONAL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95272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APACIDADES TÉCNICAS'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0240"/>
            <a:ext cx="9144000" cy="13716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valuación de necesidades: autoevaluaciones nacionales de capacidad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34136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A partir de evaluaciones institucionales existentes o 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ad hoc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, tener en cuenta para las organizaciones 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Nivel de educación/sensibilización sobre m.a. y c.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Los poderes y funciones de las organizaciones en relación con las cuestiones relativas al medio ambiente y cambio climát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Influencia de riesgos climáticos sobre la capacidad de funcionamien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Sistemas de información y capacidades técnicas, financieras, jurídicas/reglamentarias en relación con el m.a. y el c.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Mecanismos de planificación, toma de decisiones, asignación de presupuestos y program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structuras y mecanismos de colaboración y coordin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valuaciones en relación con el medio ambiente y el cambio climát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UNEP-UND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FB7-E5CA-4D84-8754-40E6D9DBE2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stablecimiento de mecanismos de trabajo para una iniciativa de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ir disposiciones institucionales (políticas y técnicas) (p.ej., comités directivos y técnic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ecer un marco de gest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ones de liderazg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ursos human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ones financier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ones de evaluación y monitore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sarrollar un plan de trabajo operat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5BF1-2C79-401F-B399-DD8308CB63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rendizaje a través de la práctica: varios 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foqu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5694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ción formal en integración y aspectos técnicos específic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Visitas de intercamb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prendizaje in situ a través de programas nacionales de integración, que incluyen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quipos interdisciplinari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ermanamiento entre organizaciones (twinning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istencia técnic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yectos de demostr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prendizade de experiencias y difus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2241-6828-4230-8242-B6AE5C80E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y motivos importantes para integrar el medio ambiente y el cambio climático en todos los planes de desarroll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isten puntos de entrada para integrar el medio ambiente y el cambio climático en todas las etapas del ciclo de política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fortalecimientos institucional y de capacidades (basado en un buen diagnóstico de los puntos fuertes/débiles de las estructuras existentes y los esfuerzos para mejorar la gobernanza) es una condición clave para que la integración se produzca de forma satisfactor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 evaluación de las necesidades, el establecimiento de mecanismos de trabajo eficaces y el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rendizaje a través de la práctica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puede servir de apoyo al proceso de integració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E3A-6534-4191-99BA-BE0766079A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32E-73C1-413E-B473-610B5258F1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ás allá del concepto de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edio ambiente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como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l medio ambiente y la protección de los RRNN constituyen un sector, aunque su sostenibilidad también depende de las políticas de otros secto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l desempeño de otros sectores depende en gran medida del estado del medio ambien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No basta con abordar el medio ambiente como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l desarrollo de otros sectores deben tener en cuenta la sostenibilidad ambient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l medio ambiente como sector suele tener una financiación insufic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AEA-F762-40EF-B2A8-CEF00ED2D3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ción realizada en la conferencia de SEA e IDC, Halong Bay, Vietnam, 24-28 de enero de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A27-D65B-4391-BBF1-CBC02E7B27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¿En qué consiste la integración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84464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Definición de </a:t>
            </a:r>
            <a:r>
              <a:rPr b="0" lang="es-ES" sz="2400" spc="-1" strike="noStrike">
                <a:solidFill>
                  <a:srgbClr val="0092c0"/>
                </a:solidFill>
                <a:latin typeface="Verdana"/>
              </a:rPr>
              <a:t>integración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: el curso, la corriente, la tendencia o la manera de pensar predominante o mayoritaria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2c0"/>
                </a:solidFill>
                <a:latin typeface="Verdana"/>
              </a:rPr>
              <a:t>Integración</a:t>
            </a:r>
            <a:r>
              <a:rPr b="0" lang="es-ES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La incorporación fundamentada de un valor, tema o asunto relevante en las decisiones de instituciones que fomentan políticas, normas, planes, inversiones y acciones de desarrollo nacional, local y sectorial 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(adaptado de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2c0"/>
                </a:solidFill>
                <a:latin typeface="Verdana"/>
              </a:rPr>
              <a:t>El cambio y la consolidación de instituciones, así como el desarrollo de capacidades 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conforman la base de cualquier esfuerzo de integr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59C-5DD8-4D1B-A25E-66BDF73FE8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tivos de la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La integración es un proceso a largo plazo, iterativo, que tiene el objetivo d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transformar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y lo que es más importante, transformar políticas, asignación de recursos y práctic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para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promover los resultados de desarrollo deseados (con respecto al género, al medio ambiente, al cambio climático, a la gobernanza, a los derechos humanos, etc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y apoyar soluciones integradas para los problemas human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5BE7-CF2A-48F3-91A1-546F950CD7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arco político para la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1916280"/>
            <a:ext cx="8497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l Consenso Europeo sobre Desarrollo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reconoce de forma explícita los vínculos entre el desarrollo y el medio ambiente y destaca la necesidad de poner en práctica un </a:t>
            </a:r>
            <a:r>
              <a:rPr b="0" i="1" lang="es-ES" sz="2000" spc="-1" strike="noStrike">
                <a:solidFill>
                  <a:srgbClr val="0f5494"/>
                </a:solidFill>
                <a:latin typeface="Verdana"/>
              </a:rPr>
              <a:t>“un planteamiento de atención transversal…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Programa para el Cambio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l desarrollo no es sostenible si deteriora el medio ambiente, la biodiversidad y los recursos naturales y aumenta la exposición y vulnerabilidad a las catástrofes naturales”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strategia de la UE sobre la biodiversidad para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Invita a una cooperación de desarrollo de la CE compatible con la biodiversida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Un marco para integrar el medio ambiente y el cambio climátic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58A5-17BA-42BA-8322-184B1C8169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untos de partida para la integración en el ciclo de polític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A50-A8D4-4B44-8C09-B26B4DEA50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28760" y="1554120"/>
            <a:ext cx="5913360" cy="47134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lanificación nacional de desarroll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56000" y="242100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stablecer la agend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seño de polític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r y monitorear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108000" y="1484280"/>
            <a:ext cx="2376360" cy="12970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eterminar los puntos de acceso y argumentación de apoy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372360" y="1628640"/>
            <a:ext cx="2336760" cy="151308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Integración en los procesos de definición de políticas y planific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nfrentar el desafío de la implemen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UNDP-UNEP (2009) Figura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terminar los puntos de acceso y argumentación de apoy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97632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Integrar los vínculos entre pobreza y medio ambiente en los procesos nacionales de desarroll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Enfrentar el desafío de la implemen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Evaluaciones prelimina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os retos y la ciencia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as relaciones entre pobreza-medio ambiente y cambio climático-desarroll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os marcos gubernamentales, institucionales y político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4270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Crear conciencia y construir alianz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Consenso nacional y compromiso para un desarrollo resiliente y bajo en emisiones de carbon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175360"/>
            <a:ext cx="26640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Refuerzo institucional y de capac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valuación de neces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Mecanismos de trabaj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Recopilar evidencia específica del país e influir en los procesos político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valuación integrada de ecosistemas; análisis económico, etc.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Integración en políticas sectoriales y (sub)nacionales, estrategias, program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as incertidumb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Desarrollar y costear medidas para diseñar polític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17536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Fortalecer las instituciones y capac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Aprendizaje a través de la práctica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Presupuestos y financiació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Integración en el proceso presupuestari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Integración en el sistema de monitore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Marcos de evaluación de rendimient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Recopilación de indicadores y dato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107316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Apoyo en las medidas para diseño de polñitic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A nivel nacional, sectorial y subnacional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175360"/>
            <a:ext cx="251928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Fortalecer instituciones y capac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La integración </a:t>
            </a:r>
            <a:br>
              <a:rPr sz="1500"/>
            </a:b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como práctica estándar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65720"/>
            <a:ext cx="6769080" cy="43200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Implicación de actores y coordinación dentro de la comunidad de desarroll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823680" cy="3286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16360" y="3213000"/>
            <a:ext cx="807840" cy="3430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792000" cy="3301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855720" cy="3268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2987640" y="2708280"/>
            <a:ext cx="871560" cy="2998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790560" cy="30456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67072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67072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084720" y="1773360"/>
            <a:ext cx="785880" cy="3553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5724360" y="2421000"/>
            <a:ext cx="787680" cy="3128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ado de: UNDP-UNEP (2009) Figura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823680" cy="2998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203640" y="5300640"/>
            <a:ext cx="798480" cy="3160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56360" y="5445000"/>
            <a:ext cx="787320" cy="3574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779400" cy="33336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795240" cy="2872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6-15T09:05:40Z</dcterms:modified>
  <cp:revision>136</cp:revision>
  <dc:subject/>
  <dc:title>Slide 1</dc:title>
</cp:coreProperties>
</file>